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1E5F3-B0E3-417A-B575-E29C1673D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9716F-E135-4DCB-A63B-108ED3E4C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92AA9-603D-4757-8F8B-C227999BC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F7A0A-B213-48BB-B17B-11BB54E22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A7E5C-6FB6-452E-85D7-E5B69C17D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3F8C0-D2AA-4E1B-BD58-854DB9009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10AE5-65EF-41AE-B99F-71C527CE5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6FF4F-F10E-4DEC-9C51-F081CF500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74A58-A7A3-4730-8F67-0FD2FCC04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C0560-C6C6-428E-A3F8-B21B34965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63F02-10F8-4FFA-97DD-ADC6F0ED0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BDB89-30AF-483E-89AE-055A25936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A166B-6ADE-4412-96FC-48C337552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8C504-80F3-4D49-AB6E-EA8396123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E1AD4-4807-43EA-9D6F-F63841D9F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7044E-DE84-4546-B3D5-5D5BD7129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112E5-1F45-48A7-8518-093661EE1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8A152-DB8C-43E1-A881-013C89A54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74B87-2E3F-4586-B10F-A954D0CA2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D69C8-051F-4C17-8D55-F43E26616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A6380-F850-47C9-9374-623600937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0F07E-4A0F-46F0-A57F-D2ABF3379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6119E-6FAA-4C82-964C-D75D5A3C7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88C04-D089-4630-88AD-2E09FC300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F6C80-3BFF-411B-9352-F64BA94C4F91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E864D-91B8-45E0-BE7E-CB2A43D8ADC5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lvl="2" marL="914400" indent="227160" algn="ctr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  <a:p>
            <a:pPr lvl="3" marL="1371600" indent="112680" algn="ctr"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2120" y="10666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2a3d7a"/>
                </a:solidFill>
                <a:latin typeface="굴림"/>
              </a:rPr>
              <a:t>이온도입치료</a:t>
            </a:r>
            <a:r>
              <a:rPr b="0" lang="ko-KR" sz="4400" spc="-1" strike="noStrike">
                <a:solidFill>
                  <a:srgbClr val="2a3d7a"/>
                </a:solidFill>
                <a:latin typeface="굴림"/>
              </a:rPr>
              <a:t>(Iontophoresis, Ion transfer)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038320" y="43513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71640" y="188640"/>
            <a:ext cx="7772400" cy="6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2a3d7a"/>
                </a:solidFill>
                <a:latin typeface="굴림"/>
              </a:rPr>
              <a:t>주의사항 </a:t>
            </a:r>
            <a:endParaRPr b="0" lang="en-US" sz="40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9640" y="836280"/>
            <a:ext cx="829944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항생제와 소독붕대로 치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화학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알칼리 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양극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산성 화학화상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열화상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이온에 의한 과민반응과 알러지 반응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해산물 알러지인 경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Iodine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사용하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정맥내 신우조영술에 좋지 않은 반응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Iodine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사용하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천식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Mecholyl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의 냄새가 좋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아스피린에 대해 문제가 있는 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salicylates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로 이온도입 시 별로 효과 없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금속 민감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copper, zinc magnesium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등의 사용시에도 같은 반응이 나타날 수  있음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 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3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전기쇼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이온도입치료의 장단점 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9640" y="1773000"/>
            <a:ext cx="829944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장점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품을 피부를 통해 주입하므로 소화기계 장애가 없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주사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injection)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에서 나타날 수 있는 피부손상이나 통증이 없다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병변이 피부 가까이 있는 경우 직접 약물을 치료부위에 정확히 적용할 수 있다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침범된 기관의 치료 시 피부 장기 반사궁을 통한 간접적인 혈액순환 증가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물이 피하에 저장되어 치료효과가 장시간 지속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단점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극성이 있는 약물을 제외하고는 이온도입이 안됨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도입된 이온의 양을 정확히 측정하기가 어렵다 →과다용량에 의한 부작용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042920" y="0"/>
            <a:ext cx="7058160" cy="69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정의 및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2101320"/>
            <a:ext cx="8229600" cy="46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용어정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이온도입치료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직류전류를 이용해서 약물 이온을 피부 또는 점막을 통해 신체의 안으로 침투시키는 치료방법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이온화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물질이 해리되어 전하를 띤 입자 즉 양이온과 음이온으로 나누어지는 현상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전기영동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전류에 의해 이온이 이동하는 것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685800" y="990720"/>
            <a:ext cx="815328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4) Cataphoresis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전리되지 않은 지방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단백질 등과 같은 콜로이드 분자가 음극으로 이동하는 특성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5)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음파영동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phonophoresis)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초음파를 이용하여 피부를 통해 약물을 피하조직으로 침투시키는 것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관련실험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Leduc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의 실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감자실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00000" y="69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물리적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5564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약물의 이온농도 최대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용매의 이온농도 최저 → 최대효과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약물농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일반적으로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-5%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전류강도 낮을수록 효과적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5mA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이하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치료부위 혈류량이 많을수록 약물의 농도 희석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치료시간 보통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5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 이하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점막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-3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피부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5-20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심부조직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30-60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71640" y="54936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4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생리적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81536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침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대개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mm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이하의 진피층까지 침투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피하주사와 비슷한 효과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전류에 의한 이온침투깊이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적어도 근육층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㎝ 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지용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조직에 바로침투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-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친수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이온화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복합 성질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전류의 밀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 전극의 전류 밀도를 낮추어야 한다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.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의 크기를 양극의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배로 한다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자극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&gt;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양극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활성전극의 표면적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㎠ 당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0.1-0.5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㎃ 또는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0.5-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㎃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1066680" y="1066320"/>
            <a:ext cx="777240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3)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이온도입의 양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: I × t × ECE(I 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전류강도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ECE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전기화학당량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, t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치료시간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치료적 적용 및 주의사항 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81374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1)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적용단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모든 다이얼은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zero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에 맞춘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기계의 선택 스위치를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continuous galvanic current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에 맞춘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⑶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사용하려는 이온의 극성과 활성전극의 극성을 일치 시킨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⑷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치료부위에 사용할 이온 연고를 바르고 패드를 덮는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⑸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활성 패드전극은 거즈나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cotton, felt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로 하며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패드의 두께는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0.5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인치 정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⑹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금속전극이 직접 피부에 닿지 않도록 주의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684360" y="836280"/>
            <a:ext cx="815472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에 집중되는 화학적 자극제에 의한 피부손상 예방 ← 음극전극 크기를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2-3mA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까      지 감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⑻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패드부착이 곤란한 곳은 욕조를 분산전극으로 사용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⑼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전선이 피부에 닿지 않도록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⑽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하게 찌르는 듯한 감각이 들때까지 올리는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불쾌감을 느낄 때는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2-3mA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까지 감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⑾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burning sensation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이 발생되거나 자극이 심해지면 즉시 강도를 서서히 즐이고 피부를      검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⑿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치료 종료시 전극 분리 후 패드 및 전극에 생성된 화합물을 제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패드 건조 보관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⒀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 및 피부를 주위해서 관찰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05:57:42Z</dcterms:created>
  <dc:creator>ahn mock</dc:creator>
  <dc:description/>
  <dc:language>en-US</dc:language>
  <cp:lastModifiedBy>win xp</cp:lastModifiedBy>
  <dcterms:modified xsi:type="dcterms:W3CDTF">2005-03-14T15:04:18Z</dcterms:modified>
  <cp:revision>5</cp:revision>
  <dc:subject/>
  <dc:title>이온도입치료(Iontophoresis, Ion transfer)</dc:title>
</cp:coreProperties>
</file>